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D7DE-60B1-44FE-ACC5-CF045D38FF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F4A7-CB5D-474F-A172-6B4FC24DB6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450A-4EEF-4461-93FC-C5132A6334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6444-8B1E-4905-9704-8DD606588D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2BA7-8365-4171-9EC0-C5297F934C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1A6B-48A7-49AE-AF8D-BC23207D65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7A6-FCE3-4C20-9594-1A798E6A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7F4-EFCD-4708-AAAD-5D73ED94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2DC-C235-4C7A-9D65-4872B273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085-1D63-49F3-A77B-E2883977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F43-4172-4028-AAAA-66E69E80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757-4BAF-4431-8955-E1835DD0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B22-AB78-41CA-AC40-A5B7A5A1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B58-E62F-4511-90A0-ADC05261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D69-B9EE-4B93-9E29-66072631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C89-FE9E-4474-91B5-4A387EB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D9E-E548-45B2-A71A-B2B92E24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246-B1EE-444A-AEBF-06CAF367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3057-2645-43FB-AB24-2BF8F961031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Možno čerpat mzdové příspěvky na prac. místa pro osoby vracející se na trh práce po RD nebo po péči o záv. člena r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lexibilní forma organizace prá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z dom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krácený pracovní ú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lačený pracovní tý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dílené pracovní mí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na dohodu o pracovní činnosti nebo o provedení práce, pokud nebyla na pracovišti zave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 této výzvě za flexibilní režim není považována pružná pracovní 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B) Podpora a rozvoj samostatné výdělečn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(služby péče o děti) pro ženy začínající podnikat a vykonávající samostatně výdělečnou čin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ako doplňková aktivita mohou být součástí projektu rekvalifikace (zejména pro ženy jenž se v rámci projektu rozhodnout nezačít podnikat). Rekvalifikace musí zohledňovat možnosti uplatnění osob na lokálním trhu práce a neměly by podporovat genderové stereoty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vorba pracovních míst pro osoby znevýhodněné na trhu práce (cílové skupiny osob ) za účelem umístění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C) 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0. dub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31. srp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–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 této výzvě nejsou oprávněnými žadateli ani partnery organizační složky státu a jimi zřizované organiz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se základním vzděláním nebo s nízkou úrovní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Šíření výstupů projektu a osvěta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Monitoring a evaluace projektu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ace jak  budou  v projektu  nastaveny,  sledovány,  měřeny a hodnoceny reálné dopady projektu na rovnost žen a mužů (příloha č. 5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samostatné příloze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/ky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esmí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, platné od 15. 3. 2012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folder/476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 -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tvrzení o převzetí žá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. březn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0. dubna 2012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25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!!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áleží partnerovi, musí být označeny názvem partnera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hodnocení rovnosti žen a mužů v projektových žád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něny na stránkách 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OZOR!: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musí být založena ve správné výzvě (č. 8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1 výzvy (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, B nebo C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Checklist je součástí projektové žádosti v systému Benefit –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„Kontrola žád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Možnost zkontrolovat si žádost dle stejných kritérií, podle kterých žádost kontroluje Ř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OR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Realizace projektů této výzvy musí být zahájena v rozmezí od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1.11.2012 až 1.12.2012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iný začátek realizace projektu není v rámci této výzvy možný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žadované přílohy – doklad o právní subjektivitě, zhodnocení rovnosti žen a mužů, životopis experta/ky, potvrzení o zařazení do IP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 – max. 2 roky, začátek 1.11.2012 nebo 1.12. 20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splněny specifické podmínky dané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 -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rocento nepřímých nákladů vyplňuje v aplikaci Benefit 7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ručně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žadavek na opravu / Vyrozumění o vyřa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dvou chyb ve formálních kritériích je zaslána zprávou z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Monit do Benefit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a obsahující informaci na doplnění chybějících náležitostí – zpravidla během 14 dní. Lhůta na dodání chybějících náležitostí je 10 d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více chyb ve formálních kritériích a chybě v kritériích přijatelnosti je opět zprávou z Monit do Benefit zasláno Vyrozumění o vyřazení z dalšího procesu hodnocení (do 30 dní od uzavření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právy budou zasílány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ou z Monit do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Kontrolujte pravidelně Benefit zda zde nemáte zprávu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ukončení formálního hodnocení a hodnocení přijatelnosti budou projekty rozděleny podle uvedeného zaměření do okruhů A – C. Projekty budou hodnoceny a soutěženy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v rámci jednotlivých okru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a ANO/NE – 3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minimálně 6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projednává projekty postupně, podle nejvyššího počtu bodů, až do vyčerpání finanční alo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výběrovou komis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běrová komise má práv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mítnout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který prošel věcným hodnocením z následujících důvo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více projektů zaměřených na stejnou cílovou skupinu nad absorpční schopnosti region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xistují vážné a odůvodněné obavy o schopnosti žadatele projekt zdárně realizov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ová žádost je nedostatečně zpracována a neposkytuje dostatečnou záruku pro úspěšnou realizaci proje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edkladatel projektu prokazatelně neplnil své povinnosti v jiném projektu u administrátora GG (špatné zkušenosti z minul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bývající prostředky podpory neumožní projekt podpořit v dostatečném rozsah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 je z hlediska rozvoje lidských zdrojů na území daného regionu méně potřebn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uveřejněné výzvě jsou uvedeny další limity (např. podíl financí určený pro jednu skupinu subjektů) či další podmínky podpo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hodnotitel v rámci hodnocení označil u eliminačních kritérií jejich nesplnění a VK došla ke stejnému závěru (v takovém případě musí projekt vždy nedoporučit k podpoř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došlo k nesplnění formálních náležitostí a kritérií přijatelnosti, které nebylo rozpoznáno v odpovídající části hodnotícího procesu (tzv. sporné přípa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výběru projektů výzvy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outěž mezi jednotlivými projekty bude probíhat v rámci jednotlivých okruhů A až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bude projednávat projekty v pořadí podle počtu bodů z věcného hodnocení nejprve v okruhu A až do výše alokace na tento ok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sledně proběhne stejným způsobem výběr projektů v okruhu aktivit B 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každého okruhu bude schválen stejný počet projektů do společného zásobníků, již bez tematického rozděl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vyčerpání alokace některého z okruhů aktivit budou zbylé prostředky použity na podporu projektu ze zásobníku podle nejvyššího počtu bodů z věcn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cento nepřímých nákladů vyplňuje v aplikaci Benefit 7 ručně 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špatné zařazení položek rozpočtu – viz D5 Metodika způsobilých výdajů OP LZZ 1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bez kva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ý popis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dové příspěvky v rámci přímé podpor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: v projektu lze nárokovat až 100% mzdových nákladů na pracovní místo, nejvýše však trojnásobek minimální mzdy, tj. 24 000 Kč včetně povinných odv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viz příloha č. 6 výzvy „Obvyklé mzdy a platy“ a příloha č.7 výzvy „Obvyklé cen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40 pracovních dnů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38 25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1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) Prosazování rovných příležitostí žen a mužů a slaďování pracovního a rodinného života v zaměstnavatelské sfé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A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B) 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Arial"/>
              </a:rPr>
              <a:t>B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C) 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C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85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2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ktivity jednotlivých podporovaných okruhů lze v projektu kombinovat, ale projekt je možné podat pouze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v rámci jednoho z okruhů aktivit 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Okruh aktivit, v rámci kterého bude projekt podán, by měl odpovídat převažujícímu typu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Služby péče o děti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jsou podporovány v rámci všech tří okruhů aktivit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ouze jako součást komplexního řešení - kombinace více aktivit ve prospěch cílové skupiny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lužby lze provozovat na základě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latné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legislativy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v době realizace projektu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) Prosazování rovných příležitostí a slaďování rodinného a pracovního života v zaměstnavatelské sfé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Rovné příležitosti v organizaci žadatele a jeho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Motivace zaměstnavatelů k uskutečňování politiky přátelské k rodině a rovným příležito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genderové a rodinné aud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nikové plány rovnosti žen a muž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vádění principů diversity managemen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gramy pro rodiče na rodičovské dovole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světové, vzdělávací, poradenské a motivační ak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dvokační služby pro pomoc obětem diskriminac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4-02T12:45:10Z</dcterms:modified>
  <cp:revision>432</cp:revision>
  <dc:subject/>
  <dc:title>Snímek 1</dc:title>
</cp:coreProperties>
</file>